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медиц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мет: Енглески јез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авач: Душица Лаз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ing illness but still triggers..................body’s immune defenses against..................dise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ve immunization can be lifesaving when.................person has been infected with....................deadly org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more vaccines are developed..................new generation of.....................combined vaccines are becoming available that will allow..................physician to administer...................single shot for.................multiple dis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into Englis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редност примарне превенције болести кроз програме активне иминизације је најубедљивије показан на примеру полиомијелитиса. Пре него што је откривена вакцина, више од 20 000 случајева парализе се јављало само у САД сваке године. Са коришћењем вакцине после 1961. године, само шест случајева је забележено до 1981. године. Овакво достигнуће у елиминисању клиничке болести не оправдава немаран став што се тиче придржавања препорученог плана за полио вакцинацију. Ниске стопе имунизације су још увек очигледне код деце у одређеним сиромашним градским и сеоским групама, међу којима се већина случајева парализе и даље јављ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zation, also called vaccination or inoculation, is a method of stimulating resistance in the human body to specific diseases using microorganisms – bacteria or viruses – that have been modified or killed. These treated microorganisms do not cause the disease, but rather trigger the body’s immune system to build a defense mechanism that continuously guards against the disease. If a person immunized against a particular disease later comes into contact with the disease-causing agent, the immune system is immediately able to respond defensively. Immunization has dramatically reduced the incidence of a number of deadly disease. For example, a worldwide vaccination program resulted in the global eradication of small pox in 1980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t of the lesson can be found in the textbook “English for Students of Medicine” by Dusica Laz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to 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ad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phth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omyel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emophilus influenz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llow f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u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b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hoid f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on and discussion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can you define immuniz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two approaches to immunization have scientists develop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active components of the vaccin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active immun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type of vaccine is used to protect against yellow fever, measles, smallpox, etc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ype of vaccination that is used to protect against bacterial diseases such as poliomyelitis, typhoid fever and diphther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passive immunization perform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here any complications associated with passive immuniz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new achievements in active immuniz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mmunization present any risk to the recipi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the nouns to the following ad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ed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words in the text that mean the opposite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u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m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following Conditional Sent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atient had been given the vaccine,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he has a temperature,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ould feel fine if..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ess she had listened to the doctor’s advice,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were a psychiatrist,..........................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on’t be able to operate on a patient if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THE, A or AN where necessa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zation is.................method of stimulating resistance in.............human body to.................specific dis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ctive immunization, all or................part of..............disease-causing microorganism or.................modified product of....................microorganism is injected into..................body to make..................immune system respond defens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immunizing agents provide.................complete protection against.....................disease but other agents provide.....................partial protection, meaning that...................immunized person can contract...................disease but in.....................less severe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make......................vaccine that confers active immunization, scientists use.....................organism or..................part of one that has been modified so that it has.................low risk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Dusica Lazic</cp:lastModifiedBy>
  <dcterms:modified xsi:type="dcterms:W3CDTF">2012-10-16T14:36:44Z</dcterms:modified>
  <cp:revision>15</cp:revision>
  <dc:subject/>
  <dc:title>Slide 1</dc:title>
</cp:coreProperties>
</file>