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мет: Енглески јез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авач: Душица Лаз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DS – A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S stands for Acquired Immune Deficiency Syndr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d means that it is caught from someone or something in contrast to congenital or heredi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e Deficiency means a weakness in the body’s system that fight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drome means a group of health problems that make up a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DS is a viral disease that impairs the immune system of the human body, leaving it prey to a great variety of infections that would be readily suppressed by a functioning immune system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t of the lesson can be found in the textbook “English for Students of Medicine” by Dusica Laz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 to reme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n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a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u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cr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ukopl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xoplasm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megalovi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on and discussion ques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es AIDS stand f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as AIDS first identifi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uses A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es HIV damage the immune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ways of the disease transmi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AIDS-related comple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pportunistic infections that a patient with AIDS may develo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verage life expectancy of patients with AIDS from the onset of sympto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re a cure for A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the AIDS patients tre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line the word which is different from ot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ir                debilitate             enhance                deteri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ress           subdue               extinguish              in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alent           uncommon         dominant               widesp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tail                prolong               lessen                   redu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ittent        recurrent             occasional           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istent          enduring             transient                perpe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at              rest                     defy                       strug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ct                  inviolate             armed                    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ntless          submissive         fierce                     impla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psed           deterioration       regression            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ll words that can be used to describ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following sentences by filling “OVER” or “UNDER” in the ga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atient is very weak. He seems.................nour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didn’t feel well yesterday. He was................come by tired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should do some exercises. Her muscles are   ................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n is sick. He was .....................exposed to harmful chemical sub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control yourself. Sometimes you are ................sensi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didn’t expect that she would .....................achieve at the Facul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esent or Past participle in the following sent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we arrived, we saw the doctor (examine) the pat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nish) his check-up, he left the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 will send you an (illustrate) jour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nter) at last, the sick man started to compl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et some (lead) doctors at that hos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n had a (distinguish) career in the field of gene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ing poi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ological aspects of the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ica Lazic</cp:lastModifiedBy>
  <dcterms:modified xsi:type="dcterms:W3CDTF">2014-07-28T09:06:42Z</dcterms:modified>
  <cp:revision>14</cp:revision>
  <dc:subject/>
  <dc:title>Slide 1</dc:title>
</cp:coreProperties>
</file>